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53D-D6ED-4269-A9D6-965F4159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BCD-0C5F-4B4E-9D56-9C721923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573-3BA0-4A64-B548-7EDF7C9D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D4B-C531-495D-BA4D-DC6ED025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866B-B4D3-4B41-A043-3020E031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C2D3-54B1-48C9-8622-DA5A2D0D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32A8-1EC5-42DF-8C81-C573830B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0A6D-9C60-41FF-9D0E-D4D2570B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B568-5535-48CE-B215-DD822CB9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FF76-7AE2-422D-9C86-176100F0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86A9-9DFB-4414-AA0B-089DC535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C1E-D0F0-4F33-88D8-CA8D7073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2528-49A6-496D-81B9-E22CFBA4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F698-EE60-402A-9D71-B2224BE4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5B02-0065-4CFF-A032-2412C917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9416-455D-4370-8948-C0468D13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F31C-72B7-4F69-A3A7-9665705B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3A0-04A3-4FB7-8E9E-1510787A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DD4-E67C-41D3-BBB0-4BE969FC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33A1-AD53-4245-8E63-A3C83D03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8B4-B1B1-4B27-B77F-C64F2E49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313-EE0F-4477-9C02-70EFAD73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71E-AB95-45F2-82DF-2509B2F4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588-5E51-4F09-A6A1-EB42A3E5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:\Cartoons\People2\LC15132C.WMF"/>
          <p:cNvPicPr/>
          <p:nvPr/>
        </p:nvPicPr>
        <p:blipFill>
          <a:blip r:embed="rId2"/>
          <a:stretch/>
        </p:blipFill>
        <p:spPr>
          <a:xfrm>
            <a:off x="5195880" y="4827600"/>
            <a:ext cx="3948120" cy="203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3" marL="1584000" indent="-22608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4" marL="2036520" indent="-226080">
              <a:spcBef>
                <a:spcPts val="799"/>
              </a:spcBef>
              <a:buClr>
                <a:srgbClr val="cc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cc0000"/>
                </a:solidFill>
                <a:latin typeface="Chas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46474-5AF6-47B6-95C6-A5ACC6E0B7C4}" type="datetime">
              <a:rPr b="0" lang="en-US" sz="1400" spc="-1" strike="noStrike">
                <a:solidFill>
                  <a:srgbClr val="cc0000"/>
                </a:solidFill>
                <a:latin typeface="Chasm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cc0000"/>
                </a:solidFill>
                <a:latin typeface="Chas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86A3D-3C48-443A-8368-77D93BD1B2EF}" type="slidenum">
              <a:rPr b="0" lang="en-US" sz="1400" spc="-1" strike="noStrike">
                <a:solidFill>
                  <a:srgbClr val="cc0000"/>
                </a:solidFill>
                <a:latin typeface="Chas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E:\Cartoons\People2\LC15113C.WMF"/>
          <p:cNvPicPr/>
          <p:nvPr/>
        </p:nvPicPr>
        <p:blipFill>
          <a:blip r:embed="rId3"/>
          <a:stretch/>
        </p:blipFill>
        <p:spPr>
          <a:xfrm>
            <a:off x="0" y="5062680"/>
            <a:ext cx="1905120" cy="179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E:\Cartoons\People2\LC15129C.WMF"/>
          <p:cNvPicPr/>
          <p:nvPr/>
        </p:nvPicPr>
        <p:blipFill>
          <a:blip r:embed="rId2"/>
          <a:stretch/>
        </p:blipFill>
        <p:spPr>
          <a:xfrm>
            <a:off x="7021440" y="0"/>
            <a:ext cx="2122560" cy="228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44" name="Picture 11" descr="E:\Cartoons\People2\LC15102C.WMF"/>
          <p:cNvPicPr/>
          <p:nvPr/>
        </p:nvPicPr>
        <p:blipFill>
          <a:blip r:embed="rId3"/>
          <a:stretch/>
        </p:blipFill>
        <p:spPr>
          <a:xfrm>
            <a:off x="0" y="3262320"/>
            <a:ext cx="3675240" cy="3595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45" name="Picture 12" descr="E:\Cartoons\People2\LC15090C.WMF"/>
          <p:cNvPicPr/>
          <p:nvPr/>
        </p:nvPicPr>
        <p:blipFill>
          <a:blip r:embed="rId4"/>
          <a:stretch/>
        </p:blipFill>
        <p:spPr>
          <a:xfrm>
            <a:off x="6400800" y="4152960"/>
            <a:ext cx="2743200" cy="27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3" marL="1584000" indent="-22608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4" marL="2036520" indent="-226080">
              <a:spcBef>
                <a:spcPts val="799"/>
              </a:spcBef>
              <a:buClr>
                <a:srgbClr val="cc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Chas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FC7F6-204F-4913-B70D-C3E322D76D7D}" type="datetime">
              <a:rPr b="0" lang="en-US" sz="1400" spc="-1" strike="noStrike">
                <a:solidFill>
                  <a:srgbClr val="000000"/>
                </a:solidFill>
                <a:latin typeface="Chasm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Chas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8E792-185C-4582-94ED-D227A099549D}" type="slidenum">
              <a:rPr b="0" lang="en-US" sz="1400" spc="-1" strike="noStrike">
                <a:solidFill>
                  <a:srgbClr val="000000"/>
                </a:solidFill>
                <a:latin typeface="Chas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47676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Session 3 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95600" y="2901600"/>
            <a:ext cx="6548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Planning for Instruction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Part 2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Holy Family Unit Plan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25760"/>
            <a:ext cx="77724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ubject Area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Grad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Unit Title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Estimated Time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tudent Population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Stage 1—Desired Results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tandards –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Which will be addressed?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Understanding (s)-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What are the big ideas? What specific understandings about them are desired?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Essential Question (s)-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What question will foster inquiry,understanding and transfer of knowledge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833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Attitude(s) and Value(s) –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Attitudes and Democratic values to be developed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kills –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What skills related to acquring, organizing and using information;what technology skillls; what interpersonal skills 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320" y="423360"/>
            <a:ext cx="824076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Stage 2- Assessment Evidence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23300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Performance Task –What authentic performance task</a:t>
            </a: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	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236520" indent="-23652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Other Evidence –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 quizzes, observations, journals</a:t>
            </a: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       </a:t>
            </a: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	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685800" y="351936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Stage 3- Learning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436680" y="4321080"/>
            <a:ext cx="77724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Learning Activities (8-10 less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2211480" y="5276880"/>
            <a:ext cx="51102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References-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Take A Look at a Sample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Jdahl.wikispaces.com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02:27:08Z</dcterms:created>
  <dc:creator>Rosemary Parmigiani</dc:creator>
  <dc:description/>
  <dc:language>en-US</dc:language>
  <cp:lastModifiedBy>Rosemary Parmigiani</cp:lastModifiedBy>
  <dcterms:modified xsi:type="dcterms:W3CDTF">2010-09-01T04:52:38Z</dcterms:modified>
  <cp:revision>6</cp:revision>
  <dc:subject/>
  <dc:title>Session 2</dc:title>
</cp:coreProperties>
</file>